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1DC-C8E6-4F4F-B4E6-27ADF6B7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E06-709E-4CB0-ACFB-6D03847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42DB-5347-4B93-A51C-4276440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593-2D46-445E-8CF8-B3720630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69D-0578-4562-9B12-5775E200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75A3-FB4F-4574-9AB4-FDDFFF08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400-BAD5-41D4-A0CC-C31F0CB0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1A4-D813-421D-8ADD-1F9DD38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AEA-A1F8-4FD9-95E7-3230DC3D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1FF7-D2BE-4100-8DF7-DC7A7DB7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2A0-07D8-4691-B730-970388C3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654-131A-4195-B8DD-58D3639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48A6-716C-4C4B-B409-7FA37A578A62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5/11/14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3720" y="145800"/>
            <a:ext cx="722628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- VF Acceptance Test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279360" y="4660920"/>
            <a:ext cx="871236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25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40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34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463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6692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878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102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3076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988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7224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9280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37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7400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94560" y="4587840"/>
            <a:ext cx="180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0520" y="458784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8108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016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12400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4636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16692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8604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6052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29600" y="1662120"/>
            <a:ext cx="50328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32680" y="4322880"/>
            <a:ext cx="1628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35920" y="1079640"/>
            <a:ext cx="1628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82784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770200" y="1662120"/>
            <a:ext cx="4502160" cy="14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5080" y="1676520"/>
            <a:ext cx="27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 tests with all OpCo’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663560"/>
            <a:ext cx="2085840" cy="180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70920" y="1590840"/>
            <a:ext cx="1317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3160" y="1770120"/>
            <a:ext cx="11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duction start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1360" y="1316160"/>
            <a:ext cx="19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54200" y="1590840"/>
            <a:ext cx="13032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360" y="1305000"/>
            <a:ext cx="28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tests with 2-3 dedicated Op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732200" y="980640"/>
            <a:ext cx="208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46640" y="980640"/>
            <a:ext cx="64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776560" y="981000"/>
            <a:ext cx="349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29604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376760" y="980640"/>
            <a:ext cx="255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89320" y="981000"/>
            <a:ext cx="22320" cy="561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978680" y="980640"/>
            <a:ext cx="180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8480" y="2678040"/>
            <a:ext cx="158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637000" y="2673000"/>
            <a:ext cx="4743360" cy="146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2665440"/>
            <a:ext cx="574560" cy="165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55720" y="2833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0080" y="287172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48440" y="2798640"/>
            <a:ext cx="11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inal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43840" y="2162160"/>
            <a:ext cx="1440" cy="262908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38920" y="2295360"/>
            <a:ext cx="13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~1 w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0080" y="2311560"/>
            <a:ext cx="390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8800" y="231156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06760" y="4838760"/>
            <a:ext cx="18720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41120" y="487692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59080" y="5289480"/>
            <a:ext cx="18720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534024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8488440" y="980640"/>
            <a:ext cx="14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823080" y="980640"/>
            <a:ext cx="936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19640" y="4838760"/>
            <a:ext cx="18756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46080" y="485784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40760" y="4838760"/>
            <a:ext cx="187200" cy="23472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75480" y="4863960"/>
            <a:ext cx="11512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final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4148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1760" y="4838760"/>
            <a:ext cx="187560" cy="23472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7080" y="486900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54360" y="5813280"/>
            <a:ext cx="21600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646320" y="5813280"/>
            <a:ext cx="215640" cy="2034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00520" y="581040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77920" y="58150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94640" y="58006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508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4508640"/>
            <a:ext cx="158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23280" y="4484520"/>
            <a:ext cx="1569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9280" y="448452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28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´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7156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95560" y="4481640"/>
            <a:ext cx="158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38600" y="448164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5920" y="448164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1012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05400" y="4484520"/>
            <a:ext cx="15876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46600" y="4492800"/>
            <a:ext cx="1569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260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32360" y="4492800"/>
            <a:ext cx="1573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280" y="5267160"/>
            <a:ext cx="187200" cy="2350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04760" y="533088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1+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95280" y="5803920"/>
            <a:ext cx="216000" cy="20304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6200" y="5805360"/>
            <a:ext cx="1224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W Drop Pr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394200" y="4143960"/>
            <a:ext cx="921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3213000"/>
            <a:ext cx="358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21920" y="315756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537400" y="4479840"/>
            <a:ext cx="1573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767800" y="2157480"/>
            <a:ext cx="1440" cy="2628720"/>
          </a:xfrm>
          <a:prstGeom prst="line">
            <a:avLst/>
          </a:prstGeom>
          <a:ln w="2844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234280" y="2550960"/>
            <a:ext cx="11732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i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 Bocho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Monika Reiss</cp:lastModifiedBy>
  <dcterms:modified xsi:type="dcterms:W3CDTF">2006-01-23T11:35:13Z</dcterms:modified>
  <cp:revision>56</cp:revision>
  <dc:subject/>
  <dc:title>PowerPoint 簡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4040715</vt:r8>
  </property>
  <property fmtid="{D5CDD505-2E9C-101B-9397-08002B2CF9AE}" pid="3" name="_AuthorEmail">
    <vt:lpwstr>Monika.Reiss@BenQ.com</vt:lpwstr>
  </property>
  <property fmtid="{D5CDD505-2E9C-101B-9397-08002B2CF9AE}" pid="4" name="_AuthorEmailDisplayName">
    <vt:lpwstr>Monika Reiss</vt:lpwstr>
  </property>
  <property fmtid="{D5CDD505-2E9C-101B-9397-08002B2CF9AE}" pid="5" name="_EmailSubject">
    <vt:lpwstr>Arjen's address for VF approval process</vt:lpwstr>
  </property>
</Properties>
</file>